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3BB-B2BC-4006-AC7A-83643C3D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AE75-4808-4256-9773-2CA18FA9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046-5D5D-421F-9024-948C89A5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D32-C69C-48BF-B097-7AD177CC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BA1-DB70-445F-A3A7-74230DC0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8FB-1671-4EAB-8C3B-E9B9852A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59E-4949-4440-8ACD-ADFF76F0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812-4B44-40CE-AE4A-D32EC910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9F8-05D2-4578-8903-CE084A28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346-D6A9-4060-992C-F850E83B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E03-EDCE-4929-A03F-32F8D24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F4F8-F8EB-4598-906A-49316243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711E-4BB5-44C0-9212-B89EF6D16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24084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304920"/>
            <a:ext cx="205740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m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5562720"/>
            <a:ext cx="1066680" cy="3682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Ch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52:38Z</dcterms:created>
  <dc:creator>Computer Lab</dc:creator>
  <dc:description/>
  <dc:language>en-US</dc:language>
  <cp:lastModifiedBy>Computer Lab</cp:lastModifiedBy>
  <dcterms:modified xsi:type="dcterms:W3CDTF">2009-03-12T15:43:00Z</dcterms:modified>
  <cp:revision>8</cp:revision>
  <dc:subject/>
  <dc:title>Slide 1</dc:title>
</cp:coreProperties>
</file>